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48E4-4F61-421A-B790-17578A8476AA}"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1F9E-683B-4855-87B7-A9891775669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0CED-6270-48FB-9011-9A44E5FCA5D5}"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8DB5-8248-409E-B4CB-ED8E69E742AF}"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40D8-F714-4B42-9EEE-44D745DE218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4B87-D669-4788-AF46-2700DB6A95A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B6D8-AD79-4C98-AD08-8CA633171D0F}"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E745-CAB7-4AC3-8535-36E9D4FB7049}"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DFF9-E187-4B65-B36F-8022F05DAE2C}"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A3D4-7A45-4163-A41D-E08A83ECA6A2}"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C8CF5-D116-444D-97D2-578585F5F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7E3D7-A584-40E7-8A6E-82CA7BC40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15815-E01E-4004-AF68-3A9877022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97E16-C948-400D-BCBD-A402D9C0F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9306D-A2C7-4E1B-8369-29F7C5329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6A27-FB47-4268-9A21-15A03CD2C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F603B-8A32-4A66-B071-4B4376B4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79A4C-4ECE-4D4A-8A4F-C498ED8C6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BDD89-614B-47BD-96BE-2F559E150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E4E92-C445-4203-9606-761D3D55D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07933-05D5-44A0-810F-DB33DBDB4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3A94-0EDB-494D-94E4-710AC5F34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5CAB-A0EA-46DB-8460-00E5E2A6EB77}"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21:59Z</dcterms:modified>
  <cp:revision>23</cp:revision>
  <dc:subject/>
  <dc:title>PowerPoint Presentation</dc:title>
</cp:coreProperties>
</file>